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ED3-940C-4737-A13F-467320A1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A81-19D1-487B-AF5B-DF5E8770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A94-4265-41EC-A1A0-3B1E1467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D7A-9F7B-4C2C-A34E-04D64D9F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0E1-23EA-472B-8ED8-8D307C63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DEA-2B9D-4262-A46E-D03C5FAD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CF5-7DFA-4012-8230-7D6B38AE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842-1963-416A-934A-D9E8054F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F99-8819-4EDF-9362-12F88CA3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841-5E30-48C2-948E-6B837109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CAB-9EDC-4CA2-9987-8425F1F9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ACE-9C30-4F54-8084-5F3DEEE9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AA91-608B-406E-99EC-3DB4BFF98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way a company such as Best Buy accounts for its inventory affect its net income in a given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rror that overstates the ending inventory will also cause net income for the period to be overst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held on consignment should not be included in the inventory of the consig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ail method of inventory is useful in estimating the cost of merchandise for monthly or quarterly financial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4177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of the following documents are used for inventory control ex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or’s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 common inventory cost flow assumption in busi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1132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 in, first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-in, first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cific identification method would be used by which busin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cery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thing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obile dea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which method of inventory costing is the cost of goods sold the same as the physical flow of merchand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in, first out (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-out (L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which method of inventory costing are the costs included in the merchandise sold the latest costs of purchases incu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 out (L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in, first-out (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periodic inventory system for costing inventory, the merchandise available for sale is distributed am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648320" y="1986120"/>
          <a:ext cx="433044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6120"/>
                    <a:ext cx="433044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89080"/>
            <a:ext cx="41148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inventory and 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erchandise sold and 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and 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inventory and cost of merchandise 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period of inflation or rising prices, which inventory flow assumption will result in inventory or illusory prof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 out (L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in, first-out (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at there are accounting rules that all companies must use for reporting inven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handise inventory at its net realizable value is computed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cost – direct costs of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selling price + direct costs of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selling price – direct costs of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cost + inflationary mar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s in transit should be included in the inventory of the seller when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ight company accepts the goods from the seller for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reach the 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of the sale are FOB sh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of the sale are FOB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pplying the gross profit method, the estimated cost of the ending inventory is calculated b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50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ng estimated cost of goods sold from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estimated cost of goods sold to the estimated cost of goods available for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ng estimated cost of goods sold from the estimated cost of goods available for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estimated cost of goods sold to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1" name="Rectangle 4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33520" y="533520"/>
            <a:ext cx="830556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dentical units of Item QBM are purchased during February, as show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33520" y="11430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55680"/>
                <a:tab algn="l" pos="3146400"/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em QBM             Units        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3520" y="1523880"/>
            <a:ext cx="830556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.   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3520" y="251460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                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$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cost per 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$4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14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33520" y="32004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one unit is sold on February 27 for $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gross profit for February and ending inventory on February 28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) first-in, first-out (FIF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4495680"/>
          <a:ext cx="8305560" cy="213372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2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19; Ending inventory, $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6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496040" cy="34290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2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19; Ending inventory, $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2" name="Rectangle 4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7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33520" y="533520"/>
            <a:ext cx="830556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dentical units of Item QBM are purchased during February, as show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33520" y="11430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55680"/>
                <a:tab algn="l" pos="3146400"/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em QBM             Units        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33520" y="1523880"/>
            <a:ext cx="830556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.   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33520" y="251460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                     3           $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cost per 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$4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14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33520" y="32004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one unit is sold on February 27 for $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gross profit for February and ending inventory on February 28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) last-in, first-out (LIF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3520" y="4495680"/>
          <a:ext cx="8305560" cy="213372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2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19; Ending inventory, $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1568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7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419720" cy="32763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2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19; Ending inventory, $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4495680"/>
          <a:ext cx="8305560" cy="213372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2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19; Ending inventory, $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73" name="Group 1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4" name="Rectangle 1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533520" y="533520"/>
            <a:ext cx="830556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dentical units of Item QBM are purchased during February, as show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33520" y="11430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55680"/>
                <a:tab algn="l" pos="3146400"/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em QBM              Units        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33520" y="1523880"/>
            <a:ext cx="830556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.   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33520" y="251460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                 3          $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cost per 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$4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14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520" y="32004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one unit is sold on February 27 for $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gross profit for February and ending inventory on February 28 using th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) average cost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7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8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343400" cy="32763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2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19; Ending inventory, $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57200" y="692280"/>
            <a:ext cx="822960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basis of the following data, determine the value of the inventory at the lower of cost or market. Apply lower of cost or market to each inventory 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3505320"/>
          <a:ext cx="8229600" cy="2133360"/>
        </p:xfrm>
        <a:graphic>
          <a:graphicData uri="http://schemas.openxmlformats.org/drawingml/2006/table">
            <a:tbl>
              <a:tblPr/>
              <a:tblGrid>
                <a:gridCol w="6365880"/>
                <a:gridCol w="216000"/>
                <a:gridCol w="16477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95" name="Group 2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96" name="Rectangle 2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28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57200" y="1758960"/>
            <a:ext cx="822960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         Unit              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              Quantity      Cost Price    Market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2521080"/>
            <a:ext cx="822960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2395440"/>
                <a:tab algn="r" pos="405612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7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  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95440"/>
                <a:tab algn="r" pos="405612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5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 company change the way that it accounts for its inventory to make it look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206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114800" cy="2392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merchandising businesses use the same methods for accounting for inven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erchandising businesses such as Best Buy have to disclose in their financial statements how they account for their invento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rimary objectives of control over inventory are safeguarding the inventory and properly reporting it in the financial sta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lection of an inventory costing method can have a significant impact on the financial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st of replacing inventory is lower than its recorded purchase cost, the lower of cost or market method (LCM) is used to value the inven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986120"/>
          <a:ext cx="440676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6120"/>
                    <a:ext cx="440676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350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s that have been purchased FOB destination but  are in transit should be excluded from the buyer’s physical count of goods for inventory co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2057400"/>
          <a:ext cx="420984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57400"/>
                    <a:ext cx="420984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00:51:03Z</dcterms:created>
  <dc:creator> </dc:creator>
  <dc:description/>
  <dc:language>en-US</dc:language>
  <cp:lastModifiedBy>Leslie</cp:lastModifiedBy>
  <dcterms:modified xsi:type="dcterms:W3CDTF">2008-12-30T03:02:58Z</dcterms:modified>
  <cp:revision>37</cp:revision>
  <dc:subject/>
  <dc:title>Does the way a company such as Best Buy accounts for its inventory affect its net income in a given year?</dc:title>
</cp:coreProperties>
</file>